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549-DC39-414B-A124-576EAFCB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5E3-FEED-4FB3-AB85-C9E57E65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4CF-EB98-49B8-93D5-A1FF79A3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88E-2233-4293-816A-317096E3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636-8C0D-439F-A693-94B3B6B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49D-8791-4884-A5DF-015CC954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F2C-2851-40B6-9C51-C6A84FA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F3A-CCA5-4929-93B6-E1289A30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578-C3E0-4450-B083-4DAA521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5EA-E3E2-4D92-899A-D3CFF6D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EC6-F9E6-4BE9-9268-F2F69AC0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BFD-7CFA-44E6-8820-D8951C3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660-9B23-4948-9F9A-4D71A455193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2160360" cy="865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052640"/>
            <a:ext cx="1440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33360"/>
            <a:ext cx="172728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pers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nn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ivere in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651640" y="333000"/>
            <a:ext cx="1225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981000"/>
            <a:ext cx="122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0"/>
            <a:ext cx="1584360" cy="620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ovare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7080" y="836640"/>
            <a:ext cx="1798560" cy="115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fficili( esempi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uerr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1341360"/>
            <a:ext cx="57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1844640"/>
            <a:ext cx="2592360" cy="1297080"/>
          </a:xfrm>
          <a:prstGeom prst="rect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MIGRAZIONE qu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paese arriv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ranieri a vivere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rcare lavor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924280"/>
            <a:ext cx="1224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2492280"/>
            <a:ext cx="1727280" cy="15130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Italia 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rrivano immi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i soprattu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4005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5084640"/>
            <a:ext cx="172692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4581360"/>
            <a:ext cx="1727280" cy="648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43280" y="407664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557360"/>
            <a:ext cx="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65360"/>
            <a:ext cx="2484360" cy="1727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ne vanno all’est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vivere e cer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vo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99640" y="429264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869000"/>
            <a:ext cx="1727280" cy="1989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ti emig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molti 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,anche 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no di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olta, lo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che og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050920" y="458136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4221000"/>
            <a:ext cx="1873080" cy="64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e principali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87280" y="4797360"/>
            <a:ext cx="792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995640" y="494172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4941720"/>
            <a:ext cx="719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805360"/>
            <a:ext cx="1079640" cy="64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6210360"/>
            <a:ext cx="936720" cy="53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6021360"/>
            <a:ext cx="936720" cy="53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11Z</dcterms:created>
  <dc:creator>studente</dc:creator>
  <dc:description/>
  <dc:language>en-US</dc:language>
  <cp:lastModifiedBy>studente</cp:lastModifiedBy>
  <dcterms:modified xsi:type="dcterms:W3CDTF">2017-01-09T08:42:22Z</dcterms:modified>
  <cp:revision>3</cp:revision>
  <dc:subject/>
  <dc:title>Diapositiva 1</dc:title>
</cp:coreProperties>
</file>